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8501-3D21-4F74-850D-E73A1989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61A0-9269-4537-8583-EADC15BA9B2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F15A-FD86-4E86-A8D7-91E1DC26E86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EA75-9A73-4EA2-980D-DAA1915217E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FF6E-94F8-457F-BA77-9F6E364620B7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56C4-584E-434D-8B5D-6456347ECFD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A57-335E-44B6-998A-6297B21FAD9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0E3C-77C5-4011-B905-9D67C02FDB1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5183-D079-42D4-BAD9-1FE054FC6A77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E42-0C4A-40C7-8D3F-7936DE70F597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AFF-A500-4ACF-8F0B-20C52DD0EC4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0EF3-631B-4A61-AC6B-7FCB7EC29FD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7B8-3F33-4B28-84CF-D215410C0E7D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F0B-C6B8-4818-B4EA-8F6D5FD0BF8B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733F-F7DB-46FD-9E27-0CC79A588F7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6957-9A40-4317-B42D-3F38B4A54C2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4EE0-9C34-4399-B912-514A9A22C57B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141-4B41-4AC0-AE10-2AAB6704BE2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5D26-D848-4F47-ABBD-2A3D15EAC0D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E5B7-6230-44EC-865C-FE9E004EE25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FA2-7827-49AC-A8D1-F25DAD886C30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AD95-74F3-4467-9765-ED5C11456AAB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CD8E-D0F6-4A39-9CD5-2A9A16227E1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43C-F138-4617-8A4E-6B480398BDEF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5DD3-2531-42AB-A247-041A5C9FEF4D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E0A-5F2C-4C5D-959A-45B4CDC6BE5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106-EDA6-49A7-B78F-FE92DF7DFFE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408A-D95D-48A0-B52E-E14EA35EE07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0056-104F-4CC0-BAED-8D1EF9832C1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D9E4-CDEF-4EB7-8E7F-CCD823D253A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43F0-E065-4E35-9313-7B14BB68DCA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1D0-7200-43C1-A8EA-1D07176A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3E4-625D-483F-8D4D-3E25A1DF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4AE-863B-4391-BF01-5078E27D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D7D-D5FD-4C7B-A2FE-37CA1D12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D53-5763-41B9-AEB1-9DBCD371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FF2-F1F5-45FC-9605-B3E4187A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A49-3955-4AA1-BB5E-4491574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5FA-3896-44B3-B4E6-6D9016E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7FD-A523-4CDC-AD27-29DEAB1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9FA-C7A6-4653-B0A8-FAB4D0A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5E6-383E-403F-95A9-97C2600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03A-EF30-4A5F-9AD3-89E8A97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BB8E-AE1A-4A9F-976B-4A9309067472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 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Helps you use your “noodle”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ing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2 Edit_notes_colors.png"/>
          <p:cNvPicPr/>
          <p:nvPr/>
        </p:nvPicPr>
        <p:blipFill>
          <a:blip r:embed="rId1"/>
          <a:stretch/>
        </p:blipFill>
        <p:spPr>
          <a:xfrm>
            <a:off x="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notating helps you understan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2 Edit_notes_paraphrase.png"/>
          <p:cNvPicPr/>
          <p:nvPr/>
        </p:nvPicPr>
        <p:blipFill>
          <a:blip r:embed="rId1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200400" y="434340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267080" y="5105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Using words that you understand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57200" y="2438280"/>
            <a:ext cx="9907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2 Edit_notes_my ideas.png"/>
          <p:cNvPicPr/>
          <p:nvPr/>
        </p:nvPicPr>
        <p:blipFill>
          <a:blip r:embed="rId1"/>
          <a:stretch/>
        </p:blipFill>
        <p:spPr>
          <a:xfrm>
            <a:off x="152280" y="0"/>
            <a:ext cx="8874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676520" y="19810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do you think?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105520" y="3747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 wonder…?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H="1">
            <a:off x="3733920" y="39625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562720" y="4114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 do” next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4266720" y="43434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80880" y="2362320"/>
            <a:ext cx="9907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2 Edit_title.pn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457200" y="533520"/>
            <a:ext cx="25909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5248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dd the main idea las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2 Edit_tags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590920" y="1522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Add tags now…or later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57200" y="5943600"/>
            <a:ext cx="8153280" cy="457200"/>
          </a:xfrm>
          <a:prstGeom prst="rect">
            <a:avLst/>
          </a:prstGeom>
          <a:solidFill>
            <a:srgbClr val="d1d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’s easier to add tags when you know more.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1828800" y="685800"/>
            <a:ext cx="26668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3 Source_notes_linked.png"/>
          <p:cNvPicPr/>
          <p:nvPr/>
        </p:nvPicPr>
        <p:blipFill>
          <a:blip r:embed="rId1"/>
          <a:stretch/>
        </p:blipFill>
        <p:spPr>
          <a:xfrm>
            <a:off x="128520" y="0"/>
            <a:ext cx="88869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90720" y="9144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 can always go back to the sourc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2286000"/>
            <a:ext cx="7772400" cy="6858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457200" y="1447920"/>
            <a:ext cx="838080" cy="4572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267080" y="50292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ometimes rereading clears up question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 Tabletop_notes_waiting.png"/>
          <p:cNvPicPr/>
          <p:nvPr/>
        </p:nvPicPr>
        <p:blipFill>
          <a:blip r:embed="rId1"/>
          <a:stretch/>
        </p:blipFill>
        <p:spPr>
          <a:xfrm>
            <a:off x="76320" y="0"/>
            <a:ext cx="8886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676520" y="33526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your tabletop to organiz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04920" y="4876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r notes are waiting her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685800" y="3809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152280" y="1219320"/>
            <a:ext cx="190512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3 Tabletop_notes_organized.png"/>
          <p:cNvPicPr/>
          <p:nvPr/>
        </p:nvPicPr>
        <p:blipFill>
          <a:blip r:embed="rId1"/>
          <a:stretch/>
        </p:blipFill>
        <p:spPr>
          <a:xfrm>
            <a:off x="152280" y="0"/>
            <a:ext cx="8863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>
            <a:off x="762120" y="3733920"/>
            <a:ext cx="2209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62120" y="51055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ort notes however you like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37160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rag not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4 Tabletop_notes_piles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val 4"/>
          <p:cNvSpPr/>
          <p:nvPr/>
        </p:nvSpPr>
        <p:spPr>
          <a:xfrm>
            <a:off x="4191120" y="2057400"/>
            <a:ext cx="1523880" cy="1523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343400" y="3657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ake pil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09480" y="51055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Group notes that you feel belong together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4 Tabletop_notes_code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609480" y="51055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abel your notes with visual cu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400800" y="3200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 reminders, colors and tag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store, organize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evelop your own idea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Think about what’s important 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5 Tabletop_notes_outline.png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5410080" y="1447920"/>
            <a:ext cx="2667240" cy="2361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09480" y="4343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Build your outline on-the-fly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5 Tabletop_notes_preoutline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Oval 5"/>
          <p:cNvSpPr/>
          <p:nvPr/>
        </p:nvSpPr>
        <p:spPr>
          <a:xfrm>
            <a:off x="5410080" y="1447920"/>
            <a:ext cx="2667240" cy="2361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09480" y="4267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or build it before you tak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5 Tabletop_notes_outline_tags.pn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6019920" y="3200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rag notes and piles into your outlin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800600" y="2438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Get help along the wa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Get feedback, make changes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Print out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-mail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ll in [class name] to share your list with [Teacher’s name] to get tips and comment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nough information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When you think your done, overview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6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Label details, themes, concept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Other ways to order my ideas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Reorder by searching on 2-3 tags at onc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y loose ends?</a:t>
            </a:r>
            <a:br>
              <a:rPr sz="2600"/>
            </a:b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re there types of sources I missed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Use           button to see the type and range of sources you used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  <p:pic>
        <p:nvPicPr>
          <p:cNvPr id="135" name="Picture 3" descr="6 Analysis_button.png"/>
          <p:cNvPicPr/>
          <p:nvPr/>
        </p:nvPicPr>
        <p:blipFill>
          <a:blip r:embed="rId1"/>
          <a:stretch/>
        </p:blipFill>
        <p:spPr>
          <a:xfrm>
            <a:off x="2133720" y="5848200"/>
            <a:ext cx="723960" cy="2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533600" cy="140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Organizing information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reate subtopics and outlin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notes have similar titles or topic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Pile them together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Add them to your outlin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Play with the order, be curious!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if I make new combinations of note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Search by one or more tags to find common ideas among note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other ways can I order my outline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Do new grouping suggest new ways to analyze what I know?  New ideas?  New questions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41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1 Source List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asy to add more sources </a:t>
            </a:r>
            <a:br>
              <a:rPr sz="3200"/>
            </a:b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if you need to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students say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406b8c"/>
                </a:solidFill>
                <a:latin typeface="Arial"/>
              </a:rPr>
              <a:t>love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 your site! Thank you so much. My senior paper would be taking me about 10 times as long!”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You guys are amazing!! I shared the site with my whole English class. Your bibliography program is incredible! It made making my bibliography faster, easier, and even fun!”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I overheard a young man whining to another student about a research assignment. The second student said, ‘Oh get over it, just use NoodleTools.’” (reported by librarian)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your time thinking and creating (not on comma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itations + notes =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Work you’ll be proud of!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an accurate, relevant [source list, bibliography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orrect style, punctuation, format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check for quality, bala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Take good notes, keep them organize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ources stay linked to note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Easy to quote and refere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ummarize, evaluate, question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ideas thoughtfully before wri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1 Source List.png"/>
          <p:cNvPicPr/>
          <p:nvPr/>
        </p:nvPicPr>
        <p:blipFill>
          <a:blip r:embed="rId1"/>
          <a:stretch/>
        </p:blipFill>
        <p:spPr>
          <a:xfrm>
            <a:off x="152280" y="0"/>
            <a:ext cx="8856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124080" y="2286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ist view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6172200" y="1219320"/>
            <a:ext cx="1523880" cy="5410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3 Source_notes_linked.png"/>
          <p:cNvPicPr/>
          <p:nvPr/>
        </p:nvPicPr>
        <p:blipFill>
          <a:blip r:embed="rId1"/>
          <a:stretch/>
        </p:blipFill>
        <p:spPr>
          <a:xfrm>
            <a:off x="128520" y="0"/>
            <a:ext cx="8886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5105520" y="1523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86728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733920" y="4876920"/>
            <a:ext cx="472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r notes and sources stay linke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2" name="Double Bracket 7"/>
          <p:cNvSpPr/>
          <p:nvPr/>
        </p:nvSpPr>
        <p:spPr>
          <a:xfrm>
            <a:off x="304920" y="1371600"/>
            <a:ext cx="8381880" cy="48006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Three-part note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4ea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a202"/>
                </a:solidFill>
                <a:latin typeface="Arial"/>
              </a:rPr>
              <a:t>Cut-and-paste </a:t>
            </a: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Capture author’s words, image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Mark-up the quote to understand the author’s idea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4ea2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a202"/>
                </a:solidFill>
                <a:latin typeface="Arial"/>
              </a:rPr>
              <a:t>Paraphrase or summarize</a:t>
            </a: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 Explain it to yourself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Tag concepts and fact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Add reminders and task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4ea2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a202"/>
                </a:solidFill>
                <a:latin typeface="Arial"/>
              </a:rPr>
              <a:t>My ideas</a:t>
            </a: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 Prompts for original thinking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Analyze how it fits your research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Ask questions, evaluate idea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List “to do” plan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 Edit_notes_words.png"/>
          <p:cNvPicPr/>
          <p:nvPr/>
        </p:nvPicPr>
        <p:blipFill>
          <a:blip r:embed="rId1"/>
          <a:stretch/>
        </p:blipFill>
        <p:spPr>
          <a:xfrm>
            <a:off x="1522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9"/>
          <p:cNvSpPr/>
          <p:nvPr/>
        </p:nvSpPr>
        <p:spPr>
          <a:xfrm flipH="1">
            <a:off x="2361960" y="3200400"/>
            <a:ext cx="9903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2286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ut-and-paste first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362320" y="2895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imag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029200" y="4281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word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3733920" y="4572000"/>
            <a:ext cx="12952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33520" y="3200400"/>
            <a:ext cx="11430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1 Edit_notes_words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219320" y="1522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2 Edit_notes_colors.png"/>
          <p:cNvPicPr/>
          <p:nvPr/>
        </p:nvPicPr>
        <p:blipFill>
          <a:blip r:embed="rId1"/>
          <a:stretch/>
        </p:blipFill>
        <p:spPr>
          <a:xfrm>
            <a:off x="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143000" y="-7632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Reread and color-code informat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257800" y="5181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 for problems 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H="1" flipV="1">
            <a:off x="2819160" y="4647960"/>
            <a:ext cx="2438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659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Green for statistic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H="1">
            <a:off x="4572000" y="487692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133720" y="1995480"/>
            <a:ext cx="2286000" cy="3682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light main idea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admin</cp:lastModifiedBy>
  <dcterms:modified xsi:type="dcterms:W3CDTF">2009-07-28T02:32:43Z</dcterms:modified>
  <cp:revision>87</cp:revision>
  <dc:subject/>
  <dc:title>Slide 1</dc:title>
</cp:coreProperties>
</file>